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63D-8EC2-469B-AFA3-BDEE7984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DC4A-9CB2-45C7-AFE5-6DE968BE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A8A-0A1A-4C86-9D26-317FF201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5CBE-4A30-4343-B3DF-9A7D2EEE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9E8-423F-4251-BE50-82FF7357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9715-CACA-4AD4-A734-0D6516F5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747-9C8F-410F-9058-A8B594B7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D4C-A53D-4F67-A1F9-5D60FA82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77D-8919-40FC-9C23-0255B5B0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6D7-CB5E-48B4-97EA-15D3B31D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ABA-8C7D-4FCD-AE08-3205E92D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4B4-66F6-4E57-A7BA-5AFC695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82D-776E-45AD-AF06-1CEC1AEA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175-9DAE-4D50-A3A3-0A886F4B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9BB-3D43-449A-8966-3A6BC5A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36A-32A4-42B1-9AB9-1980AAB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DDF-649F-449B-9A38-10E7396E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63F-D48D-4E7A-A49A-654CF044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645-3F45-4EC9-9B1A-D8243FC4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2B0-05CE-475F-9018-F9F8DD1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2C5-B859-44EB-B355-618A548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21B-620A-4A2D-A0ED-2823D7B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323F-4F50-4B2A-BE07-30AD10CD2797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fun part of wri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3619440" cy="3538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mistake when using quotes is that most students will use them to fill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not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reng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ir poin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28932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o remember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ote should not be its own senten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ote shoul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with 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hould usually not act as a transition from paragraph to paragraph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ation should include the author’s last name, page numbe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should be an explanation after the quote that explains how the quote supports your poi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ad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3580920"/>
            <a:ext cx="815364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edipus, Jocasta said that Oedipus should not fear anythin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What should a man fear? It’s all chance, chance rules our lives. Not a man on earth can see a day ahead, groping through the dark.” (Oedip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quote shows that Jocasta believes that Oedipus should not fear anyth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2552760" cy="241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3048120" cy="250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tter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1752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out the play, Oedipus was fearful over circumstances that he could not control. Even Jocasta understood tha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“it’s all chance, chance rules our lives. Not a man on earth can see a day ahead, groping through the dark” (Sophocles 303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espite these words of wisdom from his loving wife, Oedipus continued to act irrationally, ignoring advice from those around him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Picture 4" descr="Photo 5"/>
          <p:cNvPicPr/>
          <p:nvPr/>
        </p:nvPicPr>
        <p:blipFill>
          <a:blip r:embed="rId2"/>
          <a:stretch/>
        </p:blipFill>
        <p:spPr>
          <a:xfrm>
            <a:off x="2514600" y="42670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629400" cy="13716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ng Quotes…What do I do?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739152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ng quotes (quotes that take up at least 4 lines of the paper) are separated from the text by indenting them 10 spac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ng quotes are also single-space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riods are placed before the parenthesis with long quot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ng Quote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edipus was shocked to discover that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he'll be revealed a brother and a father to his children in his house, husband and son to her who gave him birth; wife-sharer and the killer of his father. (Sophocles 473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at’s in the Parenthesis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5181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 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or’s Last Na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tle of Piece,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use quotes if it is an article, poem, or short story; underline if it is a book. Abbreviate if it is longer than 4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me of Publisher or Website hos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700440" cy="4046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 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ge number as long as it’s not a websit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Copyright/publish d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The date you found the informatio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971800" y="1143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rt  A   Part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464796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2575440" y="1600200"/>
            <a:ext cx="47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at your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15:43Z</dcterms:created>
  <dc:creator>Buffalo Grove High School</dc:creator>
  <dc:description/>
  <dc:language>en-US</dc:language>
  <cp:lastModifiedBy>BGHS</cp:lastModifiedBy>
  <dcterms:modified xsi:type="dcterms:W3CDTF">2008-11-26T13:03:36Z</dcterms:modified>
  <cp:revision>6</cp:revision>
  <dc:subject/>
  <dc:title>Citations</dc:title>
</cp:coreProperties>
</file>